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6F5-D8A1-4111-9326-3979C9DA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15A-7187-4466-B02C-A880FA31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92B-D3CE-43A3-ABDE-27DE1A34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558-2CD7-42C4-B13A-0D8BEA1E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CC3-9739-4B9B-A10F-82AF1011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9D6-1FCD-49C2-98A8-810DA355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27E-6127-4001-B865-BADC9894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2B4-7167-4BF4-B36B-46A6E5E9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942-3323-4854-B701-C9C2B845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89D-A540-46AF-B6FA-9449720F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3B5-714D-4115-9EF3-C9899903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D7F-C92A-43AC-82AA-565D1312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526F-93FE-46E1-A0A8-76B1256566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ceum22@mail.r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elovo-lyceum22.ru/2012-/2012-02-17-08-43-52.html" TargetMode="External"/><Relationship Id="rId2" Type="http://schemas.openxmlformats.org/officeDocument/2006/relationships/hyperlink" Target="http://www.belovo-lyceum22.ru/2012-/2012-02-17-08-44-49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lyceum22@mail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Социальное партнер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 пгт Бачатский Администрации АБ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кресная школа Богоявленского хр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блиотека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 города Бел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К «Бачатски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чатский угольный разре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Мероприятия, проекты, объедин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курсии по святым местам Кузб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тер – кл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ы о вечн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малотиражной газеты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литературно-художественной малотиражной газеты «Храм слов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авки творческих раб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ь родного языка/ славянской письменности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здник русской душ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Беседы о вечн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нь православной молодежи и День св. Валент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а вера – вера наших отцов (Осторожно – секта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В космос – Бога не видал» (Наука и ве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Ты один мне надежда и опора» (литературный язык, сленг, жаргон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Русь называют святою» (о князе Владимир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ие и примир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любви и влюб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брики сайта лице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истории шко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бинет психол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зета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тв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ст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16000" y="1916280"/>
            <a:ext cx="3970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б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Исследования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Творческие работы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иртуальные экскурсии лицейского муз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стория лиц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й опыт патриотического воспи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ь свои зн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ер-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азета "Истоки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 святым местам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Год истории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4392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Мастер-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9138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здатель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9615" t="0" r="0" b="0"/>
          <a:stretch/>
        </p:blipFill>
        <p:spPr>
          <a:xfrm>
            <a:off x="179280" y="1413000"/>
            <a:ext cx="4464000" cy="49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rcRect l="21304" t="886" r="0" b="0"/>
          <a:stretch/>
        </p:blipFill>
        <p:spPr>
          <a:xfrm>
            <a:off x="4932360" y="1413000"/>
            <a:ext cx="4103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По святым мест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rcRect l="11460" t="0" r="0" b="0"/>
          <a:stretch/>
        </p:blipFill>
        <p:spPr>
          <a:xfrm>
            <a:off x="468360" y="1413000"/>
            <a:ext cx="6696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Родител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6036" t="0" r="0" b="0"/>
          <a:stretch/>
        </p:blipFill>
        <p:spPr>
          <a:xfrm>
            <a:off x="324000" y="1341360"/>
            <a:ext cx="3390840" cy="323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58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пр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775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2184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тратегия развития молодежи РФ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а период до 2025 года (проек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ноз динамики численности молодежи с 2010 до 2025 – с 36,6 млн. до 25 мл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охвата молодого поколения асоциальными проявле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молодежной безработицы среди всех российских безработных составляет 42,5-43,5%, а основную их долю - безработные в возрасте 20-24 л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2% молодых болеют обычными заболеваниями, имеют хронические заболевания - 1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ритерии оценки результативност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количества обучающихся, задействованных в деятельности духовно-нравственного на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родителей деятельностью лицея по духовно-нравственному воспит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оценка продуктов творческой деятельности обучающихся духовно-нравственного направления внешними экспертами ( не менее 70% рабо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динамика результатов формирования у обучающихся соответствующих деятельности духовно-нравственного направления У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ceum22@mail.r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будущего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0556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реотипный «советский»/ формальный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ый росси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тиворечивый, несформированны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семьи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ая российская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а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очная –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глянцев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оветск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1,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ее, нет семьи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56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Нормативно – правовые осно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137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он «Об образовании в РФ» Статья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. 1  … Содержание образования должно …обеспечивать формирование и развитие его личности в соответствии с принятыми в семье и обществе духовно-нравственными и социокультурными ценностя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цепция духовно-нравственного развития и воспитания гражданина Ро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Современный национальный воспитательный идеал — э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онравственный, творческий, компетентный гражда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и, принимающий судьбу Отечества как свою личную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ознающий ответственность за настоящее и будущее сво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аны, укоренённый в духовных и культурных традиция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национального народа Российской Федераци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ограмма духовно-нравственного воспитания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щепедагогическая цель программ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я у обучающихся универсальных учебных действий  в деятельности духовно-нравственного направления в условиях введения ФГОС ОО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ганизационно-педагогическая 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граммы – обеспечить условия, результативной внеурочной деятельность обучающихся духовно-нравственного направления в условиях введения ФГОС ОО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341360"/>
          <a:ext cx="8229600" cy="5181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ительная запис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жидаемые результаты програм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ализации программ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ь православ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нность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одные промыс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оводство в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истоков мастерст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ужейное и ювелирное дело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ож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Organization Chart 37"/>
          <p:cNvGrpSpPr/>
          <p:nvPr/>
        </p:nvGrpSpPr>
        <p:grpSpPr>
          <a:xfrm>
            <a:off x="179280" y="692280"/>
            <a:ext cx="8856360" cy="6049080"/>
            <a:chOff x="179280" y="692280"/>
            <a:chExt cx="8856360" cy="604908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H="1" flipV="1" rot="5400000">
              <a:off x="4078800" y="396828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 rot="16200000">
              <a:off x="6527160" y="3151440"/>
              <a:ext cx="356400" cy="326556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V="1" rot="16200000">
              <a:off x="5710680" y="396792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6" idx="0"/>
              <a:endCxn id="60" idx="2"/>
            </p:cNvCxnSpPr>
            <p:nvPr/>
          </p:nvCxnSpPr>
          <p:spPr>
            <a:xfrm flipV="1">
              <a:off x="5073120" y="4606200"/>
              <a:ext cx="2160" cy="35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0"/>
              <a:endCxn id="60" idx="2"/>
            </p:cNvCxnSpPr>
            <p:nvPr/>
          </p:nvCxnSpPr>
          <p:spPr>
            <a:xfrm flipH="1" flipV="1" rot="5400000">
              <a:off x="3263400" y="3152880"/>
              <a:ext cx="356400" cy="326268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71" idx="2"/>
            </p:cNvCxnSpPr>
            <p:nvPr/>
          </p:nvCxnSpPr>
          <p:spPr>
            <a:xfrm rot="10800000">
              <a:off x="877680" y="1402920"/>
              <a:ext cx="3495600" cy="498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60" idx="1"/>
              <a:endCxn id="71" idx="2"/>
            </p:cNvCxnSpPr>
            <p:nvPr/>
          </p:nvCxnSpPr>
          <p:spPr>
            <a:xfrm rot="10800000">
              <a:off x="877680" y="1402920"/>
              <a:ext cx="3495600" cy="284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5"/>
            <p:cNvCxnSpPr>
              <a:stCxn id="74" idx="1"/>
              <a:endCxn id="71" idx="2"/>
            </p:cNvCxnSpPr>
            <p:nvPr/>
          </p:nvCxnSpPr>
          <p:spPr>
            <a:xfrm rot="10800000">
              <a:off x="877680" y="1402920"/>
              <a:ext cx="3495600" cy="177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36"/>
            <p:cNvCxnSpPr>
              <a:stCxn id="76" idx="1"/>
              <a:endCxn id="71" idx="2"/>
            </p:cNvCxnSpPr>
            <p:nvPr/>
          </p:nvCxnSpPr>
          <p:spPr>
            <a:xfrm rot="10800000">
              <a:off x="877680" y="1402920"/>
              <a:ext cx="3495600" cy="712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037"/>
            <p:cNvSpPr/>
            <p:nvPr/>
          </p:nvSpPr>
          <p:spPr>
            <a:xfrm>
              <a:off x="179280" y="6922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Внеуроч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зан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8"/>
            <p:cNvSpPr/>
            <p:nvPr/>
          </p:nvSpPr>
          <p:spPr>
            <a:xfrm>
              <a:off x="4373640" y="17596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рок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39"/>
            <p:cNvSpPr/>
            <p:nvPr/>
          </p:nvSpPr>
          <p:spPr>
            <a:xfrm>
              <a:off x="4373640" y="28270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онкурс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лимпиа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4373640" y="38948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Творческое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бъедине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_s1041"/>
            <p:cNvSpPr/>
            <p:nvPr/>
          </p:nvSpPr>
          <p:spPr>
            <a:xfrm>
              <a:off x="4373640" y="603000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роектная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деятельност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042"/>
            <p:cNvSpPr/>
            <p:nvPr/>
          </p:nvSpPr>
          <p:spPr>
            <a:xfrm>
              <a:off x="111168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едакция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043"/>
            <p:cNvSpPr/>
            <p:nvPr/>
          </p:nvSpPr>
          <p:spPr>
            <a:xfrm>
              <a:off x="43736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туд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044"/>
            <p:cNvSpPr/>
            <p:nvPr/>
          </p:nvSpPr>
          <p:spPr>
            <a:xfrm>
              <a:off x="600552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лу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045"/>
            <p:cNvSpPr/>
            <p:nvPr/>
          </p:nvSpPr>
          <p:spPr>
            <a:xfrm>
              <a:off x="76370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кти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1046"/>
            <p:cNvSpPr/>
            <p:nvPr/>
          </p:nvSpPr>
          <p:spPr>
            <a:xfrm>
              <a:off x="2743200" y="4962240"/>
              <a:ext cx="139716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ай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Управление и орган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ординационны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ирующий администра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е объединение педагог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Ю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Мурик</cp:lastModifiedBy>
  <dcterms:modified xsi:type="dcterms:W3CDTF">2014-04-07T23:46:22Z</dcterms:modified>
  <cp:revision>38</cp:revision>
  <dc:subject/>
  <dc:title>Слайд 1</dc:title>
</cp:coreProperties>
</file>