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4F61-BF90-4B40-806A-DDCC4E036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AC8D-02F4-407A-80E8-F21BD1F2F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D634-E322-488D-BE6A-2C5072906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2EF2-B2AD-4ECF-8D21-7882A60A4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D739-B768-403A-99C3-10EBD5DAF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EE86-C071-4B18-AB1D-7FD8FD8E0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2852-8201-42FB-9654-4401183E2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4A3B-5D18-46BC-939F-9ED6921A5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8670-727E-423C-AE5A-C4E064DF6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BF4C-79E8-4383-B9AD-6331159AA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E191-7CD2-4EE8-970E-72083D35B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8E7B-7C47-405E-BA7C-B81A90C99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DCB14-E41C-438A-8415-47B4A59F1D0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lyceum22@mail.ru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belovo-lyceum22.ru/2012-/2012-02-17-08-43-52.html" TargetMode="External"/><Relationship Id="rId2" Type="http://schemas.openxmlformats.org/officeDocument/2006/relationships/hyperlink" Target="http://www.belovo-lyceum22.ru/2012-/2012-02-17-08-44-49.html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1341360"/>
            <a:ext cx="75614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Духовно-нравственное воспитание школьников</a:t>
            </a:r>
            <a:br>
              <a:rPr sz="4000"/>
            </a:b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в условиях реализации ФГОС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94920" y="4076280"/>
            <a:ext cx="48164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елова Елена Николаевна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иректо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00000"/>
                </a:solidFill>
                <a:uFillTx/>
                <a:latin typeface="Times New Roman"/>
                <a:hlinkClick r:id="rId1"/>
              </a:rPr>
              <a:t>lyceum22@mail.r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 (38452) 7-17-24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0"/>
          <p:cNvSpPr/>
          <p:nvPr/>
        </p:nvSpPr>
        <p:spPr>
          <a:xfrm>
            <a:off x="1258920" y="260280"/>
            <a:ext cx="662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униципальное бюджетное общеобразовательное учреждение «Лицей № 22 города Белово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Times New Roman"/>
              </a:rPr>
              <a:t>Социальное партнерств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У пгт Бачатский Администрации АБГ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оскресная школа Богоявленского храм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иблиотека пгт Бачатск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узей пгт Бачатск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Т города Белов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К «Бачатский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ачатский угольный разре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Мероприятия, проекты, объединен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Экскурсии по святым местам Кузбасс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астер – класс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еседы о вечно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пуски малотиражной газеты «Истоки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пуски литературно-художественной малотиражной газеты «Храм слова»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ставки творческих рабо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ень родного языка/ славянской письменности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аздник русской душ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00"/>
                </a:solidFill>
                <a:latin typeface="Times New Roman"/>
              </a:rPr>
              <a:t>Беседы о вечном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ень православной молодежи и День св. Валентин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ша вера – вера наших отцов (Осторожно – секта!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«В космос – Бога не видал» (Наука и вера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«Ты один мне надежда и опора» (литературный язык, сленг, жаргон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«Русь называют святою» (о князе Владимире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гласие и примирени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 любви и влюбленнос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Рубрики сайта лицея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про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сто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узей истории школ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бинет психолог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азета «Истоки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ворчество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00000"/>
                </a:solidFill>
                <a:latin typeface="Times New Roman"/>
              </a:rPr>
              <a:t>Исток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716000" y="1916280"/>
            <a:ext cx="397044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убри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800000"/>
                </a:solidFill>
                <a:uFillTx/>
                <a:latin typeface="Times New Roman"/>
                <a:hlinkClick r:id="rId1"/>
              </a:rPr>
              <a:t>Исследования учащихс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800000"/>
                </a:solidFill>
                <a:uFillTx/>
                <a:latin typeface="Times New Roman"/>
                <a:hlinkClick r:id="rId2"/>
              </a:rPr>
              <a:t>Творческие работы учащихс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Виртуальные экскурсии лицейского музе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История лице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етодический опыт патриотического воспита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Проверь свои зна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Мастер-клас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Газета "Истоки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По святым местам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800000"/>
                </a:solidFill>
                <a:uFillTx/>
                <a:latin typeface="Times New Roman"/>
              </a:rPr>
              <a:t>Год истории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5" descr=""/>
          <p:cNvPicPr/>
          <p:nvPr/>
        </p:nvPicPr>
        <p:blipFill>
          <a:blip r:embed="rId3"/>
          <a:stretch/>
        </p:blipFill>
        <p:spPr>
          <a:xfrm>
            <a:off x="250920" y="1989000"/>
            <a:ext cx="4392360" cy="38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00000"/>
                </a:solidFill>
                <a:latin typeface="Times New Roman"/>
              </a:rPr>
              <a:t>Мастер-клас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tretch/>
        </p:blipFill>
        <p:spPr>
          <a:xfrm>
            <a:off x="179280" y="1268280"/>
            <a:ext cx="6913800" cy="51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00000"/>
                </a:solidFill>
                <a:latin typeface="Times New Roman"/>
              </a:rPr>
              <a:t>Издательств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6" descr=""/>
          <p:cNvPicPr/>
          <p:nvPr/>
        </p:nvPicPr>
        <p:blipFill>
          <a:blip r:embed="rId1"/>
          <a:srcRect l="19615" t="0" r="0" b="0"/>
          <a:stretch/>
        </p:blipFill>
        <p:spPr>
          <a:xfrm>
            <a:off x="179280" y="1413000"/>
            <a:ext cx="4464000" cy="49687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"/>
          <p:cNvPicPr/>
          <p:nvPr/>
        </p:nvPicPr>
        <p:blipFill>
          <a:blip r:embed="rId2"/>
          <a:srcRect l="21304" t="886" r="0" b="0"/>
          <a:stretch/>
        </p:blipFill>
        <p:spPr>
          <a:xfrm>
            <a:off x="4932360" y="1413000"/>
            <a:ext cx="410364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Times New Roman"/>
              </a:rPr>
              <a:t>По святым местам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9" descr=""/>
          <p:cNvPicPr/>
          <p:nvPr/>
        </p:nvPicPr>
        <p:blipFill>
          <a:blip r:embed="rId1"/>
          <a:srcRect l="11460" t="0" r="0" b="0"/>
          <a:stretch/>
        </p:blipFill>
        <p:spPr>
          <a:xfrm>
            <a:off x="468360" y="1413000"/>
            <a:ext cx="66960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00000"/>
                </a:solidFill>
                <a:latin typeface="Times New Roman"/>
              </a:rPr>
              <a:t>Родителям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6" descr=""/>
          <p:cNvPicPr/>
          <p:nvPr/>
        </p:nvPicPr>
        <p:blipFill>
          <a:blip r:embed="rId1"/>
          <a:srcRect l="16036" t="0" r="0" b="0"/>
          <a:stretch/>
        </p:blipFill>
        <p:spPr>
          <a:xfrm>
            <a:off x="324000" y="1341360"/>
            <a:ext cx="3390840" cy="32306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2"/>
          <a:stretch/>
        </p:blipFill>
        <p:spPr>
          <a:xfrm>
            <a:off x="3132000" y="2205000"/>
            <a:ext cx="583272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00000"/>
                </a:solidFill>
                <a:latin typeface="Times New Roman"/>
              </a:rPr>
              <a:t>Опро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684360" y="1341360"/>
            <a:ext cx="777528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10920" y="692280"/>
            <a:ext cx="8218440" cy="15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Стратегия развития молодежи РФ </a:t>
            </a:r>
            <a:br>
              <a:rPr sz="4000"/>
            </a:b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на период до 2025 года (проект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гноз динамики численности молодежи с 2010 до 2025 – с 36,6 млн. до 25 млн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ост охвата молодого поколения асоциальными проявлениям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оля молодежной безработицы среди всех российских безработных составляет 42,5-43,5%, а основную их долю - безработные в возрасте 20-24 ле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62% молодых болеют обычными заболеваниями, имеют хронические заболевания - 11%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Критерии оценки результативности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ост количества обучающихся, задействованных в деятельности духовно-нравственного направле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довлетворенность родителей деятельностью лицея по духовно-нравственному воспитани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ложительная оценка продуктов творческой деятельности обучающихся духовно-нравственного направления внешними экспертами ( не менее 70% работ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ложительная динамика результатов формирования у обучающихся соответствующих деятельности духовно-нравственного направления УУ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9640" y="1341360"/>
            <a:ext cx="75614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Духовно-нравственное воспитание школьников</a:t>
            </a:r>
            <a:br>
              <a:rPr sz="4000"/>
            </a:b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в условиях реализации ФГОС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394920" y="4076280"/>
            <a:ext cx="48164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елова Елена Николаевна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иректо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yceum22@mail.ru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 (38452) 7-17-24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1258920" y="260280"/>
            <a:ext cx="662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униципальное бюджетное общеобразовательное учреждение «Лицей № 22 города Белово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Образ будущего у старшекласснико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23640" y="1773000"/>
            <a:ext cx="8305560" cy="368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тереотипный «советский»/ формальный  </a:t>
            </a:r>
            <a:r>
              <a:rPr b="1" lang="ru-RU" sz="3200" spc="-1" strike="noStrike">
                <a:solidFill>
                  <a:srgbClr val="990000"/>
                </a:solidFill>
                <a:latin typeface="Times New Roman"/>
              </a:rPr>
              <a:t>26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падно-европейский – </a:t>
            </a:r>
            <a:r>
              <a:rPr b="1" lang="ru-RU" sz="3200" spc="-1" strike="noStrike">
                <a:solidFill>
                  <a:srgbClr val="990000"/>
                </a:solidFill>
                <a:latin typeface="Times New Roman"/>
              </a:rPr>
              <a:t>45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радиционный российский – </a:t>
            </a:r>
            <a:r>
              <a:rPr b="1" lang="ru-RU" sz="3200" spc="-1" strike="noStrike">
                <a:solidFill>
                  <a:srgbClr val="990000"/>
                </a:solidFill>
                <a:latin typeface="Times New Roman"/>
              </a:rPr>
              <a:t>12 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тиворечивый, несформированный – </a:t>
            </a:r>
            <a:r>
              <a:rPr b="1" lang="ru-RU" sz="3200" spc="-1" strike="noStrike">
                <a:solidFill>
                  <a:srgbClr val="990000"/>
                </a:solidFill>
                <a:latin typeface="Times New Roman"/>
              </a:rPr>
              <a:t>17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Образ семьи у старшекласснико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радиционная российская – </a:t>
            </a:r>
            <a:r>
              <a:rPr b="1" lang="ru-RU" sz="3200" spc="-1" strike="noStrike">
                <a:solidFill>
                  <a:srgbClr val="990000"/>
                </a:solidFill>
                <a:latin typeface="Times New Roman"/>
              </a:rPr>
              <a:t>15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падно-европейская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ыночная – </a:t>
            </a:r>
            <a:r>
              <a:rPr b="1" lang="ru-RU" sz="3200" spc="-1" strike="noStrike">
                <a:solidFill>
                  <a:srgbClr val="cc0000"/>
                </a:solidFill>
                <a:latin typeface="Times New Roman"/>
              </a:rPr>
              <a:t>9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«глянцевая» – </a:t>
            </a:r>
            <a:r>
              <a:rPr b="1" lang="ru-RU" sz="3200" spc="-1" strike="noStrike">
                <a:solidFill>
                  <a:srgbClr val="990000"/>
                </a:solidFill>
                <a:latin typeface="Times New Roman"/>
              </a:rPr>
              <a:t>14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«Советская» – </a:t>
            </a:r>
            <a:r>
              <a:rPr b="1" lang="ru-RU" sz="3200" spc="-1" strike="noStrike">
                <a:solidFill>
                  <a:srgbClr val="990000"/>
                </a:solidFill>
                <a:latin typeface="Times New Roman"/>
              </a:rPr>
              <a:t>21,5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корее, нет семьи – </a:t>
            </a:r>
            <a:r>
              <a:rPr b="1" lang="ru-RU" sz="3200" spc="-1" strike="noStrike">
                <a:solidFill>
                  <a:srgbClr val="990000"/>
                </a:solidFill>
                <a:latin typeface="Times New Roman"/>
              </a:rPr>
              <a:t>12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756108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Times New Roman"/>
              </a:rPr>
              <a:t>Нормативно – правовые основ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5280" y="1699920"/>
            <a:ext cx="813744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акон «Об образовании в РФ» Статья 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. 1  … Содержание образования должно …обеспечивать формирование и развитие его личности в соответствии с принятыми в семье и обществе духовно-нравственными и социокультурными ценностям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онцепция духовно-нравственного развития и воспитания гражданина Росс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«Современный национальный воспитательный идеал — эт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ысоконравственный, творческий, компетентный гражданин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оссии, принимающий судьбу Отечества как свою личную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сознающий ответственность за настоящее и будущее свое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траны, укоренённый в духовных и культурных традиция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ногонационального народа Российской Федерации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ФГО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Программа духовно-нравственного воспитания школьнико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Общепедагогическая цель программы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ормирования у обучающихся универсальных учебных действий  в деятельности духовно-нравственного направления в условиях введения ФГОС ООО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Организационно-педагогическая цел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программы – обеспечить условия, результативной внеурочной деятельность обучающихся духовно-нравственного направления в условиях введения ФГОС ООО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Содержани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324000" y="1341360"/>
          <a:ext cx="8229600" cy="518184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яснительная запис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жидаемые результаты программ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н реализации программы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усь православна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исьменность Древней Руси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родные промыслы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моводство в Древней Руси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 истоков мастерства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ружейное и ювелирное дело Древней Руси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ложение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Формы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Organization Chart 37"/>
          <p:cNvGrpSpPr/>
          <p:nvPr/>
        </p:nvGrpSpPr>
        <p:grpSpPr>
          <a:xfrm>
            <a:off x="179280" y="692280"/>
            <a:ext cx="8856360" cy="6049080"/>
            <a:chOff x="179280" y="692280"/>
            <a:chExt cx="8856360" cy="6049080"/>
          </a:xfrm>
        </p:grpSpPr>
        <p:cxnSp>
          <p:nvCxnSpPr>
            <p:cNvPr id="58" name="_s1028"/>
            <p:cNvCxnSpPr>
              <a:stCxn id="59" idx="0"/>
              <a:endCxn id="60" idx="2"/>
            </p:cNvCxnSpPr>
            <p:nvPr/>
          </p:nvCxnSpPr>
          <p:spPr>
            <a:xfrm flipH="1" flipV="1" rot="5400000">
              <a:off x="4078800" y="3968280"/>
              <a:ext cx="356400" cy="1632240"/>
            </a:xfrm>
            <a:prstGeom prst="bentConnector3">
              <a:avLst>
                <a:gd name="adj1" fmla="val 3205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1" name="_s1029"/>
            <p:cNvCxnSpPr>
              <a:stCxn id="62" idx="0"/>
              <a:endCxn id="60" idx="2"/>
            </p:cNvCxnSpPr>
            <p:nvPr/>
          </p:nvCxnSpPr>
          <p:spPr>
            <a:xfrm flipV="1" rot="16200000">
              <a:off x="6527160" y="3151440"/>
              <a:ext cx="356400" cy="3265560"/>
            </a:xfrm>
            <a:prstGeom prst="bentConnector3">
              <a:avLst>
                <a:gd name="adj1" fmla="val 3205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3" name="_s1030"/>
            <p:cNvCxnSpPr>
              <a:stCxn id="64" idx="0"/>
              <a:endCxn id="60" idx="2"/>
            </p:cNvCxnSpPr>
            <p:nvPr/>
          </p:nvCxnSpPr>
          <p:spPr>
            <a:xfrm flipV="1" rot="16200000">
              <a:off x="5710680" y="3967920"/>
              <a:ext cx="356400" cy="1632240"/>
            </a:xfrm>
            <a:prstGeom prst="bentConnector3">
              <a:avLst>
                <a:gd name="adj1" fmla="val 3205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5" name="_s1031"/>
            <p:cNvCxnSpPr>
              <a:stCxn id="66" idx="0"/>
              <a:endCxn id="60" idx="2"/>
            </p:cNvCxnSpPr>
            <p:nvPr/>
          </p:nvCxnSpPr>
          <p:spPr>
            <a:xfrm flipV="1">
              <a:off x="5073120" y="4606200"/>
              <a:ext cx="2160" cy="3564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7" name="_s1032"/>
            <p:cNvCxnSpPr>
              <a:stCxn id="68" idx="0"/>
              <a:endCxn id="60" idx="2"/>
            </p:cNvCxnSpPr>
            <p:nvPr/>
          </p:nvCxnSpPr>
          <p:spPr>
            <a:xfrm flipH="1" flipV="1" rot="5400000">
              <a:off x="3263400" y="3152880"/>
              <a:ext cx="356400" cy="3262680"/>
            </a:xfrm>
            <a:prstGeom prst="bentConnector3">
              <a:avLst>
                <a:gd name="adj1" fmla="val 3205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9" name="_s1033"/>
            <p:cNvCxnSpPr>
              <a:stCxn id="70" idx="1"/>
              <a:endCxn id="71" idx="2"/>
            </p:cNvCxnSpPr>
            <p:nvPr/>
          </p:nvCxnSpPr>
          <p:spPr>
            <a:xfrm rot="10800000">
              <a:off x="877680" y="1402920"/>
              <a:ext cx="3495600" cy="49824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2" name="_s1034"/>
            <p:cNvCxnSpPr>
              <a:stCxn id="60" idx="1"/>
              <a:endCxn id="71" idx="2"/>
            </p:cNvCxnSpPr>
            <p:nvPr/>
          </p:nvCxnSpPr>
          <p:spPr>
            <a:xfrm rot="10800000">
              <a:off x="877680" y="1402920"/>
              <a:ext cx="3495600" cy="28472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3" name="_s1035"/>
            <p:cNvCxnSpPr>
              <a:stCxn id="74" idx="1"/>
              <a:endCxn id="71" idx="2"/>
            </p:cNvCxnSpPr>
            <p:nvPr/>
          </p:nvCxnSpPr>
          <p:spPr>
            <a:xfrm rot="10800000">
              <a:off x="877680" y="1402920"/>
              <a:ext cx="3495600" cy="1779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5" name="_s1036"/>
            <p:cNvCxnSpPr>
              <a:stCxn id="76" idx="1"/>
              <a:endCxn id="71" idx="2"/>
            </p:cNvCxnSpPr>
            <p:nvPr/>
          </p:nvCxnSpPr>
          <p:spPr>
            <a:xfrm rot="10800000">
              <a:off x="877680" y="1402920"/>
              <a:ext cx="3495600" cy="7120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71" name="_s1037"/>
            <p:cNvSpPr/>
            <p:nvPr/>
          </p:nvSpPr>
          <p:spPr>
            <a:xfrm>
              <a:off x="179280" y="692280"/>
              <a:ext cx="1398600" cy="71136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Внеурочные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занятия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_s1038"/>
            <p:cNvSpPr/>
            <p:nvPr/>
          </p:nvSpPr>
          <p:spPr>
            <a:xfrm>
              <a:off x="4373640" y="1759680"/>
              <a:ext cx="1398600" cy="71136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Урок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_s1039"/>
            <p:cNvSpPr/>
            <p:nvPr/>
          </p:nvSpPr>
          <p:spPr>
            <a:xfrm>
              <a:off x="4373640" y="2827080"/>
              <a:ext cx="1398600" cy="71136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Мероприятия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конкурсы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олимпиады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_s1040"/>
            <p:cNvSpPr/>
            <p:nvPr/>
          </p:nvSpPr>
          <p:spPr>
            <a:xfrm>
              <a:off x="4373640" y="3894840"/>
              <a:ext cx="1398600" cy="71136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Творческое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объединение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_s1041"/>
            <p:cNvSpPr/>
            <p:nvPr/>
          </p:nvSpPr>
          <p:spPr>
            <a:xfrm>
              <a:off x="4373640" y="6030000"/>
              <a:ext cx="1398600" cy="71136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Проектная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деятельность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_s1042"/>
            <p:cNvSpPr/>
            <p:nvPr/>
          </p:nvSpPr>
          <p:spPr>
            <a:xfrm>
              <a:off x="1111680" y="4962240"/>
              <a:ext cx="1398600" cy="71136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Редакция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_s1043"/>
            <p:cNvSpPr/>
            <p:nvPr/>
          </p:nvSpPr>
          <p:spPr>
            <a:xfrm>
              <a:off x="4373640" y="4962240"/>
              <a:ext cx="1398600" cy="71136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Студи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_s1044"/>
            <p:cNvSpPr/>
            <p:nvPr/>
          </p:nvSpPr>
          <p:spPr>
            <a:xfrm>
              <a:off x="6005520" y="4962240"/>
              <a:ext cx="1398600" cy="71136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Клуб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_s1045"/>
            <p:cNvSpPr/>
            <p:nvPr/>
          </p:nvSpPr>
          <p:spPr>
            <a:xfrm>
              <a:off x="7637040" y="4962240"/>
              <a:ext cx="1398600" cy="71136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Актив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_s1046"/>
            <p:cNvSpPr/>
            <p:nvPr/>
          </p:nvSpPr>
          <p:spPr>
            <a:xfrm>
              <a:off x="2743200" y="4962240"/>
              <a:ext cx="1397160" cy="71136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Сайт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Times New Roman"/>
              </a:rPr>
              <a:t>Управление и организац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ординационный сове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едагогический сове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одительское собра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урирующий администрато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ворческое объединение педагог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Ю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2T16:04:58Z</dcterms:created>
  <dc:creator>Елена</dc:creator>
  <dc:description/>
  <dc:language>en-US</dc:language>
  <cp:lastModifiedBy>Мурик</cp:lastModifiedBy>
  <dcterms:modified xsi:type="dcterms:W3CDTF">2014-04-07T23:46:22Z</dcterms:modified>
  <cp:revision>38</cp:revision>
  <dc:subject/>
  <dc:title>Слайд 1</dc:title>
</cp:coreProperties>
</file>