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6B1-D9E6-4E69-8725-0EA58079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D2F-9239-474D-BB3B-0E025FB0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477-898C-487E-8E63-DECF53C8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D6A-E128-4B79-9631-084EFF94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CB3-41C3-4450-8B9B-AE9C90BF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3D9-EE7F-4D29-8DD7-A651D279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A63-9B50-4E6F-87E9-C14959F7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A49-FAD3-477E-B6E4-BFB05456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8A3-4C28-459B-8A1C-825F8935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C9D-4524-4FAC-9A8E-2831AE37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EE4-8669-4632-8C24-36ED2E13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D41-00F5-4A07-B206-F1EDF4B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8298-ECAC-4291-B8F3-81C251C009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ceum22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lovo-lyceum22.ru/2012-/2012-02-17-08-43-52.html" TargetMode="External"/><Relationship Id="rId2" Type="http://schemas.openxmlformats.org/officeDocument/2006/relationships/hyperlink" Target="http://www.belovo-lyceum22.ru/2012-/2012-02-17-08-44-49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lyceum22@mai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циальное партнер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 пгт Бачатский Администрации АБ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ная школа Богоявленского х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города Бе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«Бачатск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чатский угольный разр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Мероприятия, проекты, объед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и по святым местам Кузб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 –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ы о веч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малотиражной газеты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литературно-художественной малотиражной газеты «Храм сло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дного языка/ славянской письменности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ик русской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Беседы о веч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равославной молодежи и День св. Вален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вера – вера наших отцов (Осторожно – секта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 космос – Бога не видал» (Наука и в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один мне надежда и опора» (литературный язык, сленг, жаргон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усь называют святою» (о князе Владими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и примир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любви и влюб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и сайта лице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истории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инет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ета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с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Исследования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Творческие работы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ртуальные экскурсии лицейского муз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лиц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й опыт патриотического вос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 свои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зета "Исток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 святым местам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Год истории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92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91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зд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9615" t="0" r="0" b="0"/>
          <a:stretch/>
        </p:blipFill>
        <p:spPr>
          <a:xfrm>
            <a:off x="179280" y="141300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21304" t="886" r="0" b="0"/>
          <a:stretch/>
        </p:blipFill>
        <p:spPr>
          <a:xfrm>
            <a:off x="4932360" y="1413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 святым мест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rcRect l="11460" t="0" r="0" b="0"/>
          <a:stretch/>
        </p:blipFill>
        <p:spPr>
          <a:xfrm>
            <a:off x="468360" y="1413000"/>
            <a:ext cx="669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6036" t="0" r="0" b="0"/>
          <a:stretch/>
        </p:blipFill>
        <p:spPr>
          <a:xfrm>
            <a:off x="324000" y="1341360"/>
            <a:ext cx="3390840" cy="323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тратегия развития молодежи РФ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период до 2025 года (проек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 динамики численности молодежи с 2010 до 2025 – с 36,6 млн. до 25 мл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охвата молодого поколения асоциальными проя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молодежной безработицы среди всех российских безработных составляет 42,5-43,5%, а основную их долю - безработные в возрасте 20-24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2% молодых болеют обычными заболеваниями, имеют хронические заболевания - 1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ив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количества обучающихся, задействованных в деятельности духовно-нравственного на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 деятельностью лицея по духовно-нравственному воспит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оценка продуктов творческой деятельности обучающихся духовно-нравственного направления внешними экспертами ( не менее 70% рабо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динамика результатов формирования у обучающихся соответствующих деятельности духовно-нравственного направлени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ceum22@mail.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будущего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055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еотипный «советский»/ формальный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ый росси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речивый, несформированны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семьи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ая российская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а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чная –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янцев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етск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ее, нет семьи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6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ормативно – правовые осн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«Об образовании в РФ» Статья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1  … Содержание образования должно …обеспечивать формирование и развитие его личности в соответствии с принятыми в семье и обществе духовно-нравственными и социокультурными ценност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цепция духовно-нравственного развития и воспитания гражданина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Современный национальный воспитательный идеал — э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и, принимающий судьбу Отечества как свою личную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знающий ответственность за настоящее и будущее сво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аны, укоренённый в духовных и культурных традиц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грамма духовно-нравственного воспитания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епедагогическая цель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 обучающихся универсальных учебных действий  в деятельности духовно-нравственного направления в условиях введения ФГОС ОО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педаго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граммы – обеспечить условия, результативной внеурочной деятельность обучающихся духовно-нравственного направления в условиях введения ФГОС ОО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41360"/>
          <a:ext cx="8229600" cy="5181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даемые результаты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ализации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ь правосла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нность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промыс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оводство в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стоков мастер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ейное и ювелирное дело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Organization Chart 37"/>
          <p:cNvGrpSpPr/>
          <p:nvPr/>
        </p:nvGrpSpPr>
        <p:grpSpPr>
          <a:xfrm>
            <a:off x="179280" y="692280"/>
            <a:ext cx="8856360" cy="6049080"/>
            <a:chOff x="179280" y="692280"/>
            <a:chExt cx="8856360" cy="60490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4078800" y="396828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6527160" y="3151440"/>
              <a:ext cx="356400" cy="326556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 rot="16200000">
              <a:off x="5710680" y="396792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V="1">
              <a:off x="5073120" y="4606200"/>
              <a:ext cx="2160" cy="35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263400" y="3152880"/>
              <a:ext cx="356400" cy="326268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71" idx="2"/>
            </p:cNvCxnSpPr>
            <p:nvPr/>
          </p:nvCxnSpPr>
          <p:spPr>
            <a:xfrm rot="10800000">
              <a:off x="877680" y="1402920"/>
              <a:ext cx="3495600" cy="49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60" idx="1"/>
              <a:endCxn id="71" idx="2"/>
            </p:cNvCxnSpPr>
            <p:nvPr/>
          </p:nvCxnSpPr>
          <p:spPr>
            <a:xfrm rot="10800000">
              <a:off x="877680" y="1402920"/>
              <a:ext cx="3495600" cy="284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74" idx="1"/>
              <a:endCxn id="71" idx="2"/>
            </p:cNvCxnSpPr>
            <p:nvPr/>
          </p:nvCxnSpPr>
          <p:spPr>
            <a:xfrm rot="10800000">
              <a:off x="877680" y="1402920"/>
              <a:ext cx="3495600" cy="177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6"/>
            <p:cNvCxnSpPr>
              <a:stCxn id="76" idx="1"/>
              <a:endCxn id="71" idx="2"/>
            </p:cNvCxnSpPr>
            <p:nvPr/>
          </p:nvCxnSpPr>
          <p:spPr>
            <a:xfrm rot="10800000">
              <a:off x="877680" y="1402920"/>
              <a:ext cx="3495600" cy="7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37"/>
            <p:cNvSpPr/>
            <p:nvPr/>
          </p:nvSpPr>
          <p:spPr>
            <a:xfrm>
              <a:off x="179280" y="6922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неуроч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4373640" y="17596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4373640" y="28270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лимпиа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373640" y="38948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41"/>
            <p:cNvSpPr/>
            <p:nvPr/>
          </p:nvSpPr>
          <p:spPr>
            <a:xfrm>
              <a:off x="4373640" y="603000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ектна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42"/>
            <p:cNvSpPr/>
            <p:nvPr/>
          </p:nvSpPr>
          <p:spPr>
            <a:xfrm>
              <a:off x="111168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дакц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43736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туд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600552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45"/>
            <p:cNvSpPr/>
            <p:nvPr/>
          </p:nvSpPr>
          <p:spPr>
            <a:xfrm>
              <a:off x="76370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46"/>
            <p:cNvSpPr/>
            <p:nvPr/>
          </p:nvSpPr>
          <p:spPr>
            <a:xfrm>
              <a:off x="2743200" y="4962240"/>
              <a:ext cx="139716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ай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правление и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ы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ирующий администр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е объединение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урик</cp:lastModifiedBy>
  <dcterms:modified xsi:type="dcterms:W3CDTF">2014-04-07T23:46:22Z</dcterms:modified>
  <cp:revision>38</cp:revision>
  <dc:subject/>
  <dc:title>Слайд 1</dc:title>
</cp:coreProperties>
</file>